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gif" ContentType="image/gif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DE7-EB3C-418B-81AF-18A639368BA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aki jest ciężar ciała na równiku ziemskim, a jaki na bieguni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nieważ g=10 (m/s^2) więc przyspieszenie odśrodkowe stanowi tylko 0.3% przyspieszenia grawitacyjn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oduje to , że ciężar ciała równiku jest nieco mniejszy niż jego ciężar na biegun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7A7-0E59-4AC9-95DC-6A4AA29F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6D4-78D5-4D8B-8450-43E057D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341-0CA2-4581-956E-A337110A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036-A2A4-4ECD-831B-26CBFE7D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41C-7726-4514-8AD0-A98A573B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DEE-44D8-4E24-8D44-9BA7581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3519-6419-40FD-8297-5325ABF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34E-42C7-4D1F-B309-FF2433B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AE1F-87A2-4C77-85EE-1A9B02E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B412-FF65-4417-A5E1-0CC5F36D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4372-2E0C-424A-9B44-BB7FE07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7FB-C834-46D9-B191-A11F141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BD0-8C85-4E4C-95E7-7830AA67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E1FF-E13C-4C53-93F3-4C66C60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2E1-0550-48C5-96A9-4BA2FB3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43E-6210-4792-842C-395EB928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4E6A-28A1-4006-A042-9C5E43A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4F0-AAD0-4D6D-B976-AD78E86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239-FF5E-4066-BD05-D7B4280C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842-F4EC-4D76-899D-8389A24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2E1-368D-4914-9B87-DD2BF337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45C-E9F4-448F-8ED8-0E15D0B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F5A-9368-42DC-ABF9-04578A3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A77-05B1-4F0D-9244-904F5DF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B0E-D8C6-4F8A-B863-A73881A82D0A}" type="slidenum"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98EF-AD54-48BD-A2E7-97F18C7515E5}" type="slidenum"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m.zagan.pl/kepler/index1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vc.org/science/kepler.htm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iem.onet.pl/wiem/00ee02.html" TargetMode="External"/><Relationship Id="rId2" Type="http://schemas.openxmlformats.org/officeDocument/2006/relationships/hyperlink" Target="http://wiem.onet.pl/wiem/00ee02.html" TargetMode="External"/><Relationship Id="rId3" Type="http://schemas.openxmlformats.org/officeDocument/2006/relationships/hyperlink" Target="http://wiem.onet.pl/wiem/003405.html" TargetMode="External"/><Relationship Id="rId4" Type="http://schemas.openxmlformats.org/officeDocument/2006/relationships/hyperlink" Target="http://wiem.onet.pl/wiem/00ee02.html" TargetMode="External"/><Relationship Id="rId5" Type="http://schemas.openxmlformats.org/officeDocument/2006/relationships/hyperlink" Target="http://wiem.onet.pl/wiem/00ee02.html" TargetMode="External"/><Relationship Id="rId6" Type="http://schemas.openxmlformats.org/officeDocument/2006/relationships/hyperlink" Target="http://wiem.onet.pl/wiem/007aee.html" TargetMode="External"/><Relationship Id="rId7" Type="http://schemas.openxmlformats.org/officeDocument/2006/relationships/hyperlink" Target="http://wiem.onet.pl/wiem/007aee.html" TargetMode="External"/><Relationship Id="rId8" Type="http://schemas.openxmlformats.org/officeDocument/2006/relationships/hyperlink" Target="http://wiem.onet.pl/wiem/00c1f2.html" TargetMode="External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cc"/>
                </a:solidFill>
                <a:latin typeface="Times New Roman"/>
              </a:rPr>
              <a:t>PRAWO POWSZECHNEJ GRAWITACJI (CIĄŻENI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09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209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Times New Roman"/>
              </a:rPr>
              <a:t>Opracował Tadeusz Aleksandrowic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earth" descr="Zdjecie Ziemi"/>
          <p:cNvPicPr/>
          <p:nvPr/>
        </p:nvPicPr>
        <p:blipFill>
          <a:blip r:embed="rId1"/>
          <a:stretch/>
        </p:blipFill>
        <p:spPr>
          <a:xfrm>
            <a:off x="2971800" y="304812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228600"/>
            <a:ext cx="7446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W całym Kosmosie rządzą prawa powszechnej grawitacji.  To właśnie siły grawitacji zachowują istnienie między innymi naszego </a:t>
            </a:r>
            <a:r>
              <a:rPr b="0" lang="pl-PL" sz="2800" spc="-1" strike="noStrike">
                <a:solidFill>
                  <a:srgbClr val="eaeaea"/>
                </a:solidFill>
                <a:latin typeface="Times New Roman"/>
              </a:rPr>
              <a:t>UKŁADU SŁONECZNEGO.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kosmos" descr="zdjecie ukladu slonecznego"/>
          <p:cNvPicPr/>
          <p:nvPr/>
        </p:nvPicPr>
        <p:blipFill>
          <a:blip r:embed="rId1"/>
          <a:stretch/>
        </p:blipFill>
        <p:spPr>
          <a:xfrm>
            <a:off x="2286000" y="1752480"/>
            <a:ext cx="5429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66"/>
                </a:solidFill>
                <a:latin typeface="Times New Roman"/>
              </a:rPr>
              <a:t>Ruchem planet w Układzie Słonecznym rządzą trzy </a:t>
            </a:r>
            <a:br>
              <a:rPr sz="2400"/>
            </a:br>
            <a:r>
              <a:rPr b="0" lang="pl-PL" sz="2800" spc="-1" strike="noStrike">
                <a:solidFill>
                  <a:srgbClr val="ffcc66"/>
                </a:solidFill>
                <a:latin typeface="Times New Roman"/>
              </a:rPr>
              <a:t>PRAWA  KEPLERA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>
            <a:hlinkClick r:id="rId1"/>
          </p:cNvPr>
          <p:cNvSpPr/>
          <p:nvPr/>
        </p:nvSpPr>
        <p:spPr>
          <a:xfrm>
            <a:off x="2925720" y="130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jkprawda" descr="Jan Kepler"/>
          <p:cNvPicPr/>
          <p:nvPr/>
        </p:nvPicPr>
        <p:blipFill>
          <a:blip r:embed="rId2"/>
          <a:stretch/>
        </p:blipFill>
        <p:spPr>
          <a:xfrm>
            <a:off x="1600200" y="1600200"/>
            <a:ext cx="3292560" cy="425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0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143000"/>
            <a:ext cx="3581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"Moim przekonaniem jest, że okoliczności,</a:t>
            </a: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w jakich ludzie zdobywają wiedzę </a:t>
            </a: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o zjawiskach niebieskich, </a:t>
            </a: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są nie mniej warte niż same odkrycia"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Johannes Kepl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cc66"/>
                </a:solidFill>
                <a:latin typeface="Times New Roman"/>
              </a:rPr>
              <a:t>PRAWA KEPLERA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39600" y="-24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I prawo</a:t>
            </a:r>
            <a:r>
              <a:rPr b="1" lang="en-US" sz="16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Keplera</a:t>
            </a:r>
            <a:r>
              <a:rPr b="1" lang="en-US" sz="1600" spc="-1" strike="noStrike">
                <a:solidFill>
                  <a:srgbClr val="cc99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38080"/>
            <a:ext cx="930276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ety poruszają się po orbitach eliptycznych, przy czym Słońce znajduje się w jednym z ognisk elipsy;</a:t>
            </a:r>
            <a:br>
              <a:rPr sz="20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                       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574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II prawo Keplera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III prawo Keplera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23040"/>
            <a:ext cx="89154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kwadraty okresów obiegów planet wokół Słońca są proporcjonalne do trzecich potęg ich średnich odległości od Słońc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/ T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/ R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39600" y="6399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equation" descr="Equation for ellip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828800"/>
            <a:ext cx="1292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195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dla danej planety stałą wielkością jest jej tzw. prędkość polowa (tj. pole powierzchni figury ograniczonej łukiem elipsy zakreślanym przez planetę w jednostce czasu i odległościami od końców łuku do ogniska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9560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kepler_sm" descr="Animated GIf of Kepler's 2nd Law by Bill Drennon"/>
          <p:cNvPicPr/>
          <p:nvPr/>
        </p:nvPicPr>
        <p:blipFill>
          <a:blip r:embed="rId3"/>
          <a:stretch/>
        </p:blipFill>
        <p:spPr>
          <a:xfrm>
            <a:off x="6019920" y="3886200"/>
            <a:ext cx="2819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70440" y="1440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00b5b"/>
                </a:solidFill>
                <a:latin typeface="Times New Roman"/>
              </a:rPr>
              <a:t>Galeria zdjęć ludzi związanych z prawami grawitacj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3" name="galil" descr="[Galileusz]"/>
          <p:cNvPicPr/>
          <p:nvPr/>
        </p:nvPicPr>
        <p:blipFill>
          <a:blip r:embed="rId1"/>
          <a:stretch/>
        </p:blipFill>
        <p:spPr>
          <a:xfrm>
            <a:off x="1752480" y="533520"/>
            <a:ext cx="1752840" cy="2171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2743200"/>
            <a:ext cx="3886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b5b"/>
                </a:solidFill>
                <a:latin typeface="Times New Roman"/>
              </a:rPr>
              <a:t>Galileusz [Galileo Galilei] (1564-1642)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74320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00b5b"/>
                </a:solidFill>
                <a:latin typeface="Times New Roman"/>
              </a:rPr>
              <a:t>Jan [Johannes] Kepler (1571-1630)</a:t>
            </a:r>
            <a:r>
              <a:rPr b="0" lang="en-US" sz="1600" spc="-1" strike="noStrike">
                <a:solidFill>
                  <a:srgbClr val="200b5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kepler" descr="[J. Kepler]"/>
          <p:cNvPicPr/>
          <p:nvPr/>
        </p:nvPicPr>
        <p:blipFill>
          <a:blip r:embed="rId2"/>
          <a:stretch/>
        </p:blipFill>
        <p:spPr>
          <a:xfrm>
            <a:off x="5715000" y="533520"/>
            <a:ext cx="1828800" cy="2209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66680" y="5867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200b5b"/>
                </a:solidFill>
                <a:latin typeface="Times New Roman"/>
              </a:rPr>
              <a:t> </a:t>
            </a:r>
            <a:r>
              <a:rPr b="1" lang="en-US" sz="16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Izaak Newton (1642</a:t>
            </a:r>
            <a:r>
              <a:rPr b="1" lang="pl-PL" sz="1800" spc="-1" strike="noStrike">
                <a:solidFill>
                  <a:srgbClr val="200b5b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 1727)</a:t>
            </a: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8" name="newton" descr="[Newton]"/>
          <p:cNvPicPr/>
          <p:nvPr/>
        </p:nvPicPr>
        <p:blipFill>
          <a:blip r:embed="rId3"/>
          <a:stretch/>
        </p:blipFill>
        <p:spPr>
          <a:xfrm>
            <a:off x="1676520" y="3429000"/>
            <a:ext cx="18288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867280" y="3505320"/>
            <a:ext cx="1762200" cy="1753920"/>
            <a:chOff x="5867280" y="3505320"/>
            <a:chExt cx="1762200" cy="1753920"/>
          </a:xfrm>
        </p:grpSpPr>
        <p:grpSp>
          <p:nvGrpSpPr>
            <p:cNvPr id="210" name=""/>
            <p:cNvGrpSpPr/>
            <p:nvPr/>
          </p:nvGrpSpPr>
          <p:grpSpPr>
            <a:xfrm>
              <a:off x="5875200" y="3512880"/>
              <a:ext cx="1746360" cy="1738080"/>
              <a:chOff x="5875200" y="3512880"/>
              <a:chExt cx="1746360" cy="1738080"/>
            </a:xfrm>
          </p:grpSpPr>
          <p:sp>
            <p:nvSpPr>
              <p:cNvPr id="211" name=""/>
              <p:cNvSpPr/>
              <p:nvPr/>
            </p:nvSpPr>
            <p:spPr>
              <a:xfrm>
                <a:off x="5875200" y="3512880"/>
                <a:ext cx="1746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eaeaea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             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75200" y="3512880"/>
                <a:ext cx="1746360" cy="17380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867280" y="3505320"/>
              <a:ext cx="1762200" cy="1753920"/>
            </a:xfrm>
            <a:prstGeom prst="rect">
              <a:avLst/>
            </a:prstGeom>
            <a:noFill/>
            <a:ln cap="sq"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4" name="tn_einst_6" descr="Click to see big picture (328x480 pixels; 26 KB))"/>
          <p:cNvPicPr/>
          <p:nvPr/>
        </p:nvPicPr>
        <p:blipFill>
          <a:blip r:embed="rId4"/>
          <a:stretch/>
        </p:blipFill>
        <p:spPr>
          <a:xfrm>
            <a:off x="5867280" y="3505320"/>
            <a:ext cx="1828800" cy="22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343400" y="5867280"/>
            <a:ext cx="4495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b5b"/>
                </a:solidFill>
                <a:latin typeface="Verdana"/>
              </a:rPr>
              <a:t>Albert Einstein</a:t>
            </a:r>
            <a:r>
              <a:rPr b="1" lang="en-US" sz="16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200b5b"/>
                </a:solidFill>
                <a:latin typeface="Times New Roman"/>
              </a:rPr>
              <a:t>(1879-1955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Times New Roman"/>
              </a:rPr>
              <a:t>Twórca teorii grawitacji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92240"/>
            <a:ext cx="8229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saac Sir Newt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(1643-172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zyk, matematyk, filozof i astronom angielski. Profesor fizyki i mathematic uniwersytetu w Cambridge 1669-1701, członek Royal Society od 1672 i jego prezes od 1703, członek paryskiej AN od 1699. W 1705 otrzymał tytuł szlache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ki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1687 opublikował pracę 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hilosophiae naturalis principia mathematica, w której sformułował podstawy fizyki klasycznej (Newtona zasady dynamiki) i przedstawił ich zastosowanie w zagadnieniach mechaniki, astronomii i fizyki. Sformułował prawo powszechnego ciążenia, wyjaśnił precesję osi Ziemi i pływy morza, uzasadnił prawa Kepler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optyce opracował korpuskularną teorię budowy światła (spór z Ch. Huygensem), określił zasady optyki geometrycznej oraz odkrył interferencję światła (Newtona pierścienie). Dał początek badaniom nad ciepłem (wprowadził skalę stopni ciepła, podał prawo stygnięcia ciał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iezależnie od G.W. Leibniza odkrył rachunek różniczkowy i całkowy, podał metodę przybliżonego rozwiązywania równań (tzw. metoda stycznych), podał wzór interpolacyjny dla wielomianu n-tego stopnia określonego w n-punktach, badał własności krzywych. W filozofii twórca mechanicyzmu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80"/>
                </a:solidFill>
                <a:uFillTx/>
                <a:latin typeface="Times New Roman"/>
              </a:rPr>
              <a:t>Isaak Newton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newton" descr="Newton"/>
          <p:cNvPicPr/>
          <p:nvPr/>
        </p:nvPicPr>
        <p:blipFill>
          <a:blip r:embed="rId1"/>
          <a:stretch/>
        </p:blipFill>
        <p:spPr>
          <a:xfrm>
            <a:off x="2209680" y="762120"/>
            <a:ext cx="5410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66"/>
                </a:solidFill>
                <a:latin typeface="Times New Roman"/>
              </a:rPr>
              <a:t>PRAWO POWSZECHNEJ GRAWITACJI (CIĄŻENI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66680"/>
            <a:ext cx="9144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Newtona prawo grawitacji (ciążenia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prawo powszechnego ciążenia sformułowane (1687) przez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1"/>
              </a:rPr>
              <a:t>I.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2"/>
              </a:rPr>
              <a:t> Newto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 każde dwie masy (m,M) znajdujące się w odległości r przyciągają się siłą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równą co do wartości bezwzględnej F=GmM/r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gdzie: G </a:t>
            </a:r>
            <a:r>
              <a:rPr b="0" lang="en-US" sz="2400" spc="-1" strike="noStrike">
                <a:solidFill>
                  <a:srgbClr val="eaeaea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3"/>
              </a:rPr>
              <a:t>grawitacji stał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44800"/>
            <a:ext cx="91440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witacji stała, G,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fundamentalna stała fizyczna pojawiająca się w równaniach opisujących pole grawitacyjne (zarówno w ujęciu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4"/>
              </a:rPr>
              <a:t>I.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5"/>
              </a:rPr>
              <a:t> Newto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jak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6"/>
              </a:rPr>
              <a:t>A.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7"/>
              </a:rPr>
              <a:t> Einstei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). G = 6,6732(31)</a:t>
            </a:r>
            <a:r>
              <a:rPr b="0" lang="en-US" sz="2400" spc="-1" strike="noStrike">
                <a:solidFill>
                  <a:srgbClr val="eaeaea"/>
                </a:solidFill>
                <a:latin typeface="Lucida Sans Unicode"/>
                <a:ea typeface="Lucida Sans Unicode"/>
              </a:rPr>
              <a:t>⋅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-1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g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-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erwszy wyznaczył (stosując wagę skręceń) stałą G 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Verdana"/>
                <a:hlinkClick r:id="rId8"/>
              </a:rPr>
              <a:t>H. Cavendish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stąd jest ona czasem nazywana stałą Cavendish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Times New Roman"/>
              </a:rPr>
              <a:t>WPŁYW OBROTU ZIEMI NA CIĘŻAR CIAŁ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Times New Roman"/>
              </a:rPr>
              <a:t>Wartość siły odśrodkowej wynosi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pl-PL" sz="40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odśr.</a:t>
            </a:r>
            <a:r>
              <a:rPr b="0" lang="pl-PL" sz="3600" spc="-1" strike="noStrike">
                <a:solidFill>
                  <a:srgbClr val="eaeaea"/>
                </a:solidFill>
                <a:latin typeface="Times New Roman"/>
              </a:rPr>
              <a:t>=mR4</a:t>
            </a:r>
            <a:r>
              <a:rPr b="0" lang="pl-PL" sz="36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pl-PL" sz="3600" spc="-1" strike="noStrike">
                <a:solidFill>
                  <a:srgbClr val="eaeaea"/>
                </a:solidFill>
                <a:latin typeface="Times New Roman"/>
              </a:rPr>
              <a:t>^2/T^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Gdzie:  m – masa ciał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R – odległość ciała od osi obrotu kuli ziemskie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T – doba ziemska (24 h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657520"/>
            <a:ext cx="413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-16920" bIns="-1692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657520"/>
            <a:ext cx="413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3920" bIns="36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657520"/>
            <a:ext cx="26798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600200"/>
            <a:ext cx="2679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600200"/>
            <a:ext cx="413388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1600200"/>
            <a:ext cx="6858000" cy="52560"/>
            <a:chOff x="1143000" y="1600200"/>
            <a:chExt cx="6858000" cy="52560"/>
          </a:xfrm>
        </p:grpSpPr>
        <p:sp>
          <p:nvSpPr>
            <p:cNvPr id="116" name=""/>
            <p:cNvSpPr/>
            <p:nvPr/>
          </p:nvSpPr>
          <p:spPr>
            <a:xfrm>
              <a:off x="1143000" y="1600200"/>
              <a:ext cx="685800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1600200"/>
              <a:ext cx="6858000" cy="525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05520" y="1676520"/>
            <a:ext cx="3809880" cy="4800600"/>
            <a:chOff x="5105520" y="1676520"/>
            <a:chExt cx="3809880" cy="4800600"/>
          </a:xfrm>
        </p:grpSpPr>
        <p:sp>
          <p:nvSpPr>
            <p:cNvPr id="119" name=""/>
            <p:cNvSpPr/>
            <p:nvPr/>
          </p:nvSpPr>
          <p:spPr>
            <a:xfrm>
              <a:off x="5105520" y="1676520"/>
              <a:ext cx="355716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105520" y="1676520"/>
              <a:ext cx="3809880" cy="4792680"/>
              <a:chOff x="5105520" y="1676520"/>
              <a:chExt cx="3809880" cy="4792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105520" y="1676520"/>
                <a:ext cx="2814840" cy="47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5105520" y="1676520"/>
                <a:ext cx="3809880" cy="4750200"/>
                <a:chOff x="5105520" y="1676520"/>
                <a:chExt cx="3809880" cy="47502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105520" y="1676520"/>
                  <a:ext cx="3809880" cy="475020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5105520" y="1676520"/>
                  <a:ext cx="3809880" cy="4750200"/>
                  <a:chOff x="5105520" y="1676520"/>
                  <a:chExt cx="3809880" cy="47502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5105520" y="1676520"/>
                    <a:ext cx="2126880" cy="47502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5105520" y="1676520"/>
                    <a:ext cx="3809880" cy="4687920"/>
                    <a:chOff x="5105520" y="1676520"/>
                    <a:chExt cx="3809880" cy="468792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107680" y="1680120"/>
                      <a:ext cx="2126880" cy="46843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5105520" y="1676520"/>
                      <a:ext cx="3809880" cy="2647440"/>
                      <a:chOff x="5105520" y="1676520"/>
                      <a:chExt cx="3809880" cy="2647440"/>
                    </a:xfrm>
                  </p:grpSpPr>
                  <p:grpSp>
                    <p:nvGrpSpPr>
                      <p:cNvPr id="129" name=""/>
                      <p:cNvGrpSpPr/>
                      <p:nvPr/>
                    </p:nvGrpSpPr>
                    <p:grpSpPr>
                      <a:xfrm>
                        <a:off x="5107680" y="1680120"/>
                        <a:ext cx="3805200" cy="2639880"/>
                        <a:chOff x="5107680" y="1680120"/>
                        <a:chExt cx="3805200" cy="2639880"/>
                      </a:xfrm>
                    </p:grpSpPr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5107680" y="1680120"/>
                          <a:ext cx="3805200" cy="26398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1" name=""/>
                        <p:cNvGrpSpPr/>
                        <p:nvPr/>
                      </p:nvGrpSpPr>
                      <p:grpSpPr>
                        <a:xfrm>
                          <a:off x="5107680" y="1680120"/>
                          <a:ext cx="3805200" cy="2639880"/>
                          <a:chOff x="5107680" y="1680120"/>
                          <a:chExt cx="3805200" cy="2639880"/>
                        </a:xfrm>
                      </p:grpSpPr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>
                            <a:off x="5130360" y="1680120"/>
                            <a:ext cx="3759840" cy="2639880"/>
                          </a:xfrm>
                          <a:prstGeom prst="rect">
                            <a:avLst/>
                          </a:prstGeom>
                          <a:solidFill>
                            <a:srgbClr val="f8f8f8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rPr>
                              <a:t>  </a:t>
                            </a:r>
                            <a:r>
                              <a:rPr b="0" lang="en-US" sz="18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rPr>
                              <a:t> </a:t>
                            </a:r>
                            <a:r>
                              <a:rPr b="0" lang="en-US" sz="24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rPr>
                              <a:t>                                             </a:t>
                            </a:r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>
                            <a:off x="5107680" y="1680120"/>
                            <a:ext cx="3805200" cy="2639880"/>
                          </a:xfrm>
                          <a:prstGeom prst="rect">
                            <a:avLst/>
                          </a:prstGeom>
                          <a:solidFill>
                            <a:srgbClr val="f8f8f8"/>
                          </a:solidFill>
                          <a:ln cap="sq" w="0">
                            <a:solidFill>
                              <a:srgbClr val="a0a0a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5105520" y="1676520"/>
                        <a:ext cx="3809880" cy="26474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cap="sq" w="936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35" name="ciezar2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09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143000" y="0"/>
            <a:ext cx="7999920" cy="6856920"/>
            <a:chOff x="1143000" y="0"/>
            <a:chExt cx="7999920" cy="6856920"/>
          </a:xfrm>
        </p:grpSpPr>
        <p:sp>
          <p:nvSpPr>
            <p:cNvPr id="137" name=""/>
            <p:cNvSpPr/>
            <p:nvPr/>
          </p:nvSpPr>
          <p:spPr>
            <a:xfrm>
              <a:off x="1143000" y="0"/>
              <a:ext cx="7470360" cy="67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143000" y="0"/>
              <a:ext cx="7999920" cy="6856920"/>
              <a:chOff x="1143000" y="0"/>
              <a:chExt cx="7999920" cy="6856920"/>
            </a:xfrm>
          </p:grpSpPr>
          <p:sp>
            <p:nvSpPr>
              <p:cNvPr id="139" name=""/>
              <p:cNvSpPr/>
              <p:nvPr/>
            </p:nvSpPr>
            <p:spPr>
              <a:xfrm>
                <a:off x="1143000" y="0"/>
                <a:ext cx="5910840" cy="67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143000" y="0"/>
                <a:ext cx="7999920" cy="6856920"/>
                <a:chOff x="1143000" y="0"/>
                <a:chExt cx="7999920" cy="6856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43000" y="0"/>
                  <a:ext cx="7999920" cy="685692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1143000" y="0"/>
                  <a:ext cx="7998840" cy="6855840"/>
                  <a:chOff x="1143000" y="0"/>
                  <a:chExt cx="7998840" cy="68558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1143000" y="0"/>
                    <a:ext cx="4466160" cy="66549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1143000" y="0"/>
                    <a:ext cx="7998840" cy="6855840"/>
                    <a:chOff x="1143000" y="0"/>
                    <a:chExt cx="7998840" cy="6855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148040" y="5040"/>
                      <a:ext cx="4465800" cy="6562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" name=""/>
                    <p:cNvGrpSpPr/>
                    <p:nvPr/>
                  </p:nvGrpSpPr>
                  <p:grpSpPr>
                    <a:xfrm>
                      <a:off x="1143000" y="0"/>
                      <a:ext cx="7998840" cy="6855840"/>
                      <a:chOff x="1143000" y="0"/>
                      <a:chExt cx="7998840" cy="6855840"/>
                    </a:xfrm>
                  </p:grpSpPr>
                  <p:grpSp>
                    <p:nvGrpSpPr>
                      <p:cNvPr id="147" name=""/>
                      <p:cNvGrpSpPr/>
                      <p:nvPr/>
                    </p:nvGrpSpPr>
                    <p:grpSpPr>
                      <a:xfrm>
                        <a:off x="1148040" y="5040"/>
                        <a:ext cx="7988400" cy="6845040"/>
                        <a:chOff x="1148040" y="5040"/>
                        <a:chExt cx="7988400" cy="6845040"/>
                      </a:xfrm>
                    </p:grpSpPr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1148040" y="5040"/>
                          <a:ext cx="7988400" cy="6845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49" name=""/>
                        <p:cNvGrpSpPr/>
                        <p:nvPr/>
                      </p:nvGrpSpPr>
                      <p:grpSpPr>
                        <a:xfrm>
                          <a:off x="1148040" y="5040"/>
                          <a:ext cx="7988040" cy="6844680"/>
                          <a:chOff x="1148040" y="5040"/>
                          <a:chExt cx="7988040" cy="6844680"/>
                        </a:xfrm>
                      </p:grpSpPr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>
                            <a:off x="1195560" y="5040"/>
                            <a:ext cx="7892640" cy="6844680"/>
                          </a:xfrm>
                          <a:prstGeom prst="rect">
                            <a:avLst/>
                          </a:prstGeom>
                          <a:solidFill>
                            <a:srgbClr val="f8f8f8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pl-PL" sz="12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  <a:ea typeface="Times New Roman"/>
                              </a:rPr>
                              <a:t>  </a:t>
                            </a:r>
                            <a:r>
                              <a:rPr b="0" lang="pl-PL" sz="378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  <a:ea typeface="Times New Roman"/>
                              </a:rPr>
                              <a:t> </a:t>
                            </a:r>
                            <a:r>
                              <a:rPr b="0" lang="pl-PL" sz="12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  <a:ea typeface="Times New Roman"/>
                              </a:rPr>
      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      </a:r>
                            <a:r>
                              <a:rPr b="0" lang="en-US" sz="1100" spc="-1" strike="noStrike">
                                <a:solidFill>
                                  <a:srgbClr val="eaeaea"/>
                                </a:solidFill>
                                <a:latin typeface="Times New Roman"/>
                              </a:rPr>
                              <a:t> </a:t>
                            </a:r>
                            <a:endParaRPr b="0" lang="en-US" sz="11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1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>
                            <a:off x="1148040" y="5040"/>
                            <a:ext cx="7988040" cy="6844680"/>
                          </a:xfrm>
                          <a:prstGeom prst="rect">
                            <a:avLst/>
                          </a:prstGeom>
                          <a:solidFill>
                            <a:srgbClr val="f8f8f8"/>
                          </a:solidFill>
                          <a:ln cap="sq" w="0">
                            <a:solidFill>
                              <a:srgbClr val="a0a0a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1143000" y="0"/>
                        <a:ext cx="7998840" cy="68558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cap="sq" w="936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53" name="ciezar13" descr=""/>
          <p:cNvPicPr/>
          <p:nvPr/>
        </p:nvPicPr>
        <p:blipFill>
          <a:blip r:embed="rId1"/>
          <a:stretch/>
        </p:blipFill>
        <p:spPr>
          <a:xfrm>
            <a:off x="2819520" y="0"/>
            <a:ext cx="60195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-186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7242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Zamiast obliczać procent sił obliczymy jaki jest stosunek przyspieszenia odśrodkowego do przyspieszenia grawitacyjnego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g - 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przyspieszenia od sił różnią się tylko wymnożeniem przez stały czynnik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Obliczmy więc przyspieszenie odśrodkowe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pl-PL" sz="2000" spc="-1" strike="noStrike" baseline="-30000">
                <a:solidFill>
                  <a:srgbClr val="eaeaea"/>
                </a:solidFill>
                <a:latin typeface="Times New Roman"/>
              </a:rPr>
              <a:t>odśr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1" i="1" lang="pl-PL" sz="2000" spc="-1" strike="noStrike">
                <a:solidFill>
                  <a:srgbClr val="eaeaea"/>
                </a:solidFill>
                <a:latin typeface="Symbol"/>
                <a:ea typeface="Symbol"/>
              </a:rPr>
              <a:t></a:t>
            </a:r>
            <a:r>
              <a:rPr b="1" lang="pl-PL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 ·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Przy czym: 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 , 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gdzie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 = 24h = 24·3600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Więc:   </a:t>
            </a:r>
            <a:r>
              <a:rPr b="1" lang="pl-PL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pl-PL" sz="1200" spc="-1" strike="noStrike">
                <a:solidFill>
                  <a:srgbClr val="eaeaea"/>
                </a:solidFill>
                <a:latin typeface="Times New Roman"/>
              </a:rPr>
              <a:t>odśr</a:t>
            </a:r>
            <a:r>
              <a:rPr b="1" lang="pl-PL" sz="2400" spc="-1" strike="noStrike">
                <a:solidFill>
                  <a:srgbClr val="eaeaea"/>
                </a:solidFill>
                <a:latin typeface="Times New Roman"/>
              </a:rPr>
              <a:t>=(2</a:t>
            </a:r>
            <a:r>
              <a:rPr b="1" lang="pl-PL" sz="24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1" lang="pl-PL" sz="2400" spc="-1" strike="noStrike">
                <a:solidFill>
                  <a:srgbClr val="eaeaea"/>
                </a:solidFill>
                <a:latin typeface="Times New Roman"/>
              </a:rPr>
              <a:t>/T)^2*R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Podstawmy pozostałe  wartości: </a:t>
            </a:r>
            <a:br>
              <a:rPr sz="2000"/>
            </a:b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Promień Ziemi </a:t>
            </a:r>
            <a:r>
              <a:rPr b="1" i="1" lang="pl-PL" sz="20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= 6,37 · 10</a:t>
            </a:r>
            <a:r>
              <a:rPr b="1" lang="pl-PL" sz="20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pl-PL" sz="2000" spc="-1" strike="noStrike">
                <a:solidFill>
                  <a:srgbClr val="eaeaea"/>
                </a:solidFill>
                <a:latin typeface="Times New Roman"/>
              </a:rPr>
              <a:t>m.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pl-PL" sz="1400" spc="-1" strike="noStrike">
                <a:solidFill>
                  <a:srgbClr val="eaeaea"/>
                </a:solidFill>
                <a:latin typeface="Times New Roman"/>
              </a:rPr>
              <a:t>odśr</a:t>
            </a:r>
            <a:r>
              <a:rPr b="1" lang="pl-PL" sz="2800" spc="-1" strike="noStrike">
                <a:solidFill>
                  <a:srgbClr val="eaeaea"/>
                </a:solidFill>
                <a:latin typeface="Times New Roman"/>
              </a:rPr>
              <a:t>=(2*3.14/86400)^2*6.37*10^6=0.034 m/s^2</a:t>
            </a:r>
            <a:r>
              <a:rPr b="1" i="1" lang="pl-P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03760" y="0"/>
            <a:ext cx="4440240" cy="6629040"/>
            <a:chOff x="4703760" y="0"/>
            <a:chExt cx="4440240" cy="6629040"/>
          </a:xfrm>
        </p:grpSpPr>
        <p:sp>
          <p:nvSpPr>
            <p:cNvPr id="157" name=""/>
            <p:cNvSpPr/>
            <p:nvPr/>
          </p:nvSpPr>
          <p:spPr>
            <a:xfrm>
              <a:off x="4703760" y="0"/>
              <a:ext cx="3295440" cy="66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703760" y="0"/>
              <a:ext cx="4440240" cy="6617880"/>
              <a:chOff x="4703760" y="0"/>
              <a:chExt cx="4440240" cy="6617880"/>
            </a:xfrm>
          </p:grpSpPr>
          <p:sp>
            <p:nvSpPr>
              <p:cNvPr id="159" name=""/>
              <p:cNvSpPr/>
              <p:nvPr/>
            </p:nvSpPr>
            <p:spPr>
              <a:xfrm>
                <a:off x="4703760" y="0"/>
                <a:ext cx="2607840" cy="66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703760" y="0"/>
                <a:ext cx="4440240" cy="6559200"/>
                <a:chOff x="4703760" y="0"/>
                <a:chExt cx="4440240" cy="6559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703760" y="0"/>
                  <a:ext cx="4440240" cy="655920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4703760" y="0"/>
                  <a:ext cx="4440240" cy="6558840"/>
                  <a:chOff x="4703760" y="0"/>
                  <a:chExt cx="4440240" cy="65588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4703760" y="0"/>
                    <a:ext cx="1970280" cy="65588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4703760" y="0"/>
                    <a:ext cx="4440240" cy="6473160"/>
                    <a:chOff x="4703760" y="0"/>
                    <a:chExt cx="4440240" cy="64731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4705920" y="5040"/>
                      <a:ext cx="1970640" cy="64681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4703760" y="0"/>
                      <a:ext cx="4440240" cy="3247200"/>
                      <a:chOff x="4703760" y="0"/>
                      <a:chExt cx="4440240" cy="3247200"/>
                    </a:xfrm>
                  </p:grpSpPr>
                  <p:grpSp>
                    <p:nvGrpSpPr>
                      <p:cNvPr id="167" name=""/>
                      <p:cNvGrpSpPr/>
                      <p:nvPr/>
                    </p:nvGrpSpPr>
                    <p:grpSpPr>
                      <a:xfrm>
                        <a:off x="4705920" y="5040"/>
                        <a:ext cx="4435920" cy="3236040"/>
                        <a:chOff x="4705920" y="5040"/>
                        <a:chExt cx="4435920" cy="3236040"/>
                      </a:xfrm>
                    </p:grpSpPr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705920" y="5040"/>
                          <a:ext cx="4435920" cy="3236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eaeaea"/>
                              </a:solidFill>
                              <a:latin typeface="Times New Roman"/>
                            </a:rPr>
                            <a:t>  </a:t>
                          </a:r>
                          <a:r>
                            <a:rPr b="0" lang="en-US" sz="18400" spc="-1" strike="noStrike">
                              <a:solidFill>
                                <a:srgbClr val="eaeaea"/>
                              </a:solidFill>
                              <a:latin typeface="Times New Roman"/>
                            </a:rPr>
                            <a:t> </a:t>
                          </a:r>
                          <a:r>
                            <a:rPr b="0" lang="en-US" sz="2000" spc="-1" strike="noStrike">
                              <a:solidFill>
                                <a:srgbClr val="eaeaea"/>
                              </a:solidFill>
                              <a:latin typeface="Times New Roman"/>
                            </a:rPr>
                            <a:t>                                                      </a:t>
                          </a: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705920" y="5040"/>
                          <a:ext cx="4435920" cy="3236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cap="sq" w="0">
                          <a:solidFill>
                            <a:srgbClr val="a0a0a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4703760" y="0"/>
                        <a:ext cx="4440240" cy="324720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cap="sq" w="936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71" name="ciezar7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647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Times New Roman"/>
              </a:rPr>
              <a:t>              „ </a:t>
            </a:r>
            <a:r>
              <a:rPr b="0" lang="pl-PL" sz="2800" spc="-1" strike="noStrike">
                <a:solidFill>
                  <a:srgbClr val="ffcc66"/>
                </a:solidFill>
                <a:latin typeface="Times New Roman"/>
              </a:rPr>
              <a:t>Pokonać grawitację „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105260-7408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3733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18960" y="4495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Times New Roman"/>
              </a:rPr>
              <a:t>Rakieta DELTA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106583-7429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1320" y="441972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aeaea"/>
                </a:solidFill>
                <a:latin typeface="Times New Roman"/>
              </a:rPr>
              <a:t>Rakieta SATURN V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cover" descr="Międzynarodowa Stacja Kosmiczna"/>
          <p:cNvPicPr/>
          <p:nvPr/>
        </p:nvPicPr>
        <p:blipFill>
          <a:blip r:embed="rId3"/>
          <a:stretch/>
        </p:blipFill>
        <p:spPr>
          <a:xfrm>
            <a:off x="327672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ffcc66"/>
                </a:solidFill>
                <a:latin typeface="Times New Roman"/>
              </a:rPr>
              <a:t>Schemat rakiet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rakieta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479268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6483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Opis: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 Schemat budowy rakiety: A - ciekły azot, B - ciekły tlen, C - paliwo rakietowe, D - zespół turbin, E - pompy paliwowe, F - urządzenie zapłonowe, G - komora spalania, H - dysza wylotowa, I - strumień wyrzucanych gazów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8:32:50Z</dcterms:created>
  <dc:creator>Administrator</dc:creator>
  <dc:description/>
  <dc:language>en-US</dc:language>
  <cp:lastModifiedBy>Administrator</cp:lastModifiedBy>
  <dcterms:modified xsi:type="dcterms:W3CDTF">2002-02-15T10:50:31Z</dcterms:modified>
  <cp:revision>26</cp:revision>
  <dc:subject/>
  <dc:title>POLE GRAWITACYJNE</dc:title>
</cp:coreProperties>
</file>